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118-490B-495D-9117-69375BC9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2496-AC95-4E4B-B9EC-467BCA546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F90-8630-4ACC-A28E-12EA274A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B48-51F1-4B7F-A890-3B3D9D249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3B0-FA6E-4B0A-91E3-141465C2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071-0785-4C1C-8BE8-FACFD6DF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A5E-5F5E-4F15-9B68-8B99A5D5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D5DF-D210-4377-ADEA-E53A2285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857-7437-4393-8929-A1A52973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4A0-F16A-4F20-AB34-99112A65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FC1-B13A-4BC9-8313-D697B975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B2E0-D364-489D-BE41-8BC85BC0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2A29-DF7B-4071-AFA7-2CAC4BF75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4120" y="216000"/>
            <a:ext cx="23702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O 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2040" y="782640"/>
            <a:ext cx="859464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Get the packet by the d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Sit anywhere...for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Begin to fill out the “Who I Am”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1080"/>
                <a:tab algn="l" pos="2162160"/>
                <a:tab algn="l" pos="3243240"/>
                <a:tab algn="l" pos="4324320"/>
                <a:tab algn="l" pos="5405400"/>
                <a:tab algn="l" pos="6486480"/>
                <a:tab algn="l" pos="7567560"/>
                <a:tab algn="l" pos="8648640"/>
                <a:tab algn="l" pos="9729720"/>
                <a:tab algn="l" pos="108108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. Please hurry. We use time well in t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43160" y="3013200"/>
            <a:ext cx="4743360" cy="3562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457200"/>
            <a:ext cx="441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EXPECT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65400" y="24638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5400" y="662940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65400" y="55879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5400" y="454644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65400" y="35035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48387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BE A PARTICIPA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BE PREPAR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09680" y="1714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BE PRES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BE PROMP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09680" y="5881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5. BE POLI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82880" y="3175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ITEMS EVERYDAY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90720" y="228600"/>
            <a:ext cx="6235200" cy="6400800"/>
            <a:chOff x="990720" y="228600"/>
            <a:chExt cx="6235200" cy="6400800"/>
          </a:xfrm>
        </p:grpSpPr>
        <p:sp>
          <p:nvSpPr>
            <p:cNvPr id="60" name=""/>
            <p:cNvSpPr/>
            <p:nvPr/>
          </p:nvSpPr>
          <p:spPr>
            <a:xfrm>
              <a:off x="2075400" y="318960"/>
              <a:ext cx="5150520" cy="110844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12920" y="321480"/>
              <a:ext cx="1709640" cy="11080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90720" y="228600"/>
              <a:ext cx="2317320" cy="14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64680" y="2463120"/>
              <a:ext cx="506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64680" y="6629400"/>
              <a:ext cx="506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64680" y="5587200"/>
              <a:ext cx="506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64680" y="4546440"/>
              <a:ext cx="506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164680" y="3503880"/>
              <a:ext cx="50612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108160" y="48387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4. LAB NOTE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08160" y="37972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3. PEN/PENCI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08160" y="1714680"/>
            <a:ext cx="5257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1. NOTEBOOK/BI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08160" y="275580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. CALCULA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08160" y="5881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5. REVIEW BOO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95480" y="317520"/>
            <a:ext cx="44197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BATHROOM PASS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75040" y="31896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12920" y="32220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90720" y="22860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03320" y="291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81360" y="2209680"/>
            <a:ext cx="438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ATEGOR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087640" y="2058840"/>
            <a:ext cx="5151240" cy="1108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25520" y="2062080"/>
            <a:ext cx="1709640" cy="1108080"/>
          </a:xfrm>
          <a:prstGeom prst="roundRect">
            <a:avLst>
              <a:gd name="adj" fmla="val 50000"/>
            </a:avLst>
          </a:prstGeom>
          <a:solidFill>
            <a:srgbClr val="96969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03320" y="196848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78000" y="420372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78000" y="628668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78000" y="5243400"/>
            <a:ext cx="506088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0760" y="553716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0%  HW &amp; C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0760" y="345456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60%  QUIZ/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120760" y="4495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20%  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5920" y="2031840"/>
            <a:ext cx="2317680" cy="14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indefinite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19520" y="901800"/>
            <a:ext cx="4419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LAB PERIODS FOR REGENTS EXAM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38088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03320" y="21207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14400" y="762120"/>
            <a:ext cx="6240600" cy="1971720"/>
            <a:chOff x="914400" y="762120"/>
            <a:chExt cx="6240600" cy="1971720"/>
          </a:xfrm>
        </p:grpSpPr>
        <p:sp>
          <p:nvSpPr>
            <p:cNvPr id="94" name=""/>
            <p:cNvSpPr/>
            <p:nvPr/>
          </p:nvSpPr>
          <p:spPr>
            <a:xfrm>
              <a:off x="2069640" y="762120"/>
              <a:ext cx="508536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27240" y="1191960"/>
              <a:ext cx="1713960" cy="111024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14400" y="1188360"/>
              <a:ext cx="232308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990720" y="3765600"/>
            <a:ext cx="6219720" cy="1971720"/>
            <a:chOff x="990720" y="3765600"/>
            <a:chExt cx="6219720" cy="1971720"/>
          </a:xfrm>
        </p:grpSpPr>
        <p:sp>
          <p:nvSpPr>
            <p:cNvPr id="98" name=""/>
            <p:cNvSpPr/>
            <p:nvPr/>
          </p:nvSpPr>
          <p:spPr>
            <a:xfrm>
              <a:off x="2126520" y="376560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84120" y="419580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90720" y="409356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939960" y="117144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3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03320" y="41529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1/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30600" y="3911760"/>
            <a:ext cx="4419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EIGHT OF REGENTS EXAM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990720" y="3765600"/>
            <a:ext cx="6219720" cy="1971720"/>
            <a:chOff x="990720" y="3765600"/>
            <a:chExt cx="6219720" cy="1971720"/>
          </a:xfrm>
        </p:grpSpPr>
        <p:sp>
          <p:nvSpPr>
            <p:cNvPr id="105" name=""/>
            <p:cNvSpPr/>
            <p:nvPr/>
          </p:nvSpPr>
          <p:spPr>
            <a:xfrm>
              <a:off x="2126520" y="376560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84120" y="419580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90720" y="409356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965160" y="41781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30600" y="3911760"/>
            <a:ext cx="4419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GRADE FOR CHEATING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992160" y="942840"/>
            <a:ext cx="6219720" cy="1971720"/>
            <a:chOff x="992160" y="942840"/>
            <a:chExt cx="6219720" cy="1971720"/>
          </a:xfrm>
        </p:grpSpPr>
        <p:sp>
          <p:nvSpPr>
            <p:cNvPr id="111" name=""/>
            <p:cNvSpPr/>
            <p:nvPr/>
          </p:nvSpPr>
          <p:spPr>
            <a:xfrm>
              <a:off x="2127960" y="942840"/>
              <a:ext cx="5083920" cy="1971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85560" y="1373040"/>
              <a:ext cx="1713960" cy="1109880"/>
            </a:xfrm>
            <a:prstGeom prst="roundRect">
              <a:avLst>
                <a:gd name="adj" fmla="val 50000"/>
              </a:avLst>
            </a:prstGeom>
            <a:solidFill>
              <a:srgbClr val="969696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1270800"/>
              <a:ext cx="2322360" cy="141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66960" y="1355760"/>
            <a:ext cx="2317680" cy="14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mpact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32040" y="1089000"/>
            <a:ext cx="4419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SSIGNMENTS ACCEPTED LATE</a:t>
            </a:r>
            <a:r>
              <a:rPr b="0" lang="en-US" sz="6000" spc="-1" strike="noStrike">
                <a:solidFill>
                  <a:srgbClr val="0000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9640" y="1190520"/>
            <a:ext cx="80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WHAT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IS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Impact"/>
              </a:rPr>
              <a:t>PHYSICS 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1:35:13Z</dcterms:created>
  <dc:creator>Frank Noschese</dc:creator>
  <dc:description/>
  <dc:language>en-US</dc:language>
  <cp:lastModifiedBy>Frank Noschese</cp:lastModifiedBy>
  <dcterms:modified xsi:type="dcterms:W3CDTF">2008-09-03T00:43:36Z</dcterms:modified>
  <cp:revision>15</cp:revision>
  <dc:subject/>
  <dc:title>Slide 1</dc:title>
</cp:coreProperties>
</file>